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3243-D4DB-48A8-A79F-4FB5F51FF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icipants explored the importance of inclusive teaching which is focused on important mathematics and improved student achievement, throug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iating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aching through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stablishing math-talk learning comm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ssessing for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Link collective thinkpads to end product of the breakouts and ple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cipants investigated interconnections among these critical learnings as enabled through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fearless speaking and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questioning to expose thi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responding to provide appropriate scaffolding and challe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cipants engaged in differentiated professional learning related to the critical learnings, focused through a personalized and precise le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functions-based curricul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teaching through the mathematical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effective uses of manipulatives and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consistency and alignment of assessment of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of fragile state of content knowledge for teaching by teachers with whom we and other steering team leads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focus on CKT-M; a new vision with a focus on the big ideas in PtoA; anc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 and continued need to support MoE’s sharpened focus on differentiating instruction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year’s breakout sessions will now be interwoven throughout all sessions; these will support participants in their exploration of the big ideas and differentiating instruction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 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stigate interconnections among these critical learnings as enabled throug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less speaking and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ing to expos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ing to provide appropriate scaffolding and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ic planning to embed student success indicators with framework for math camppp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networks within and across boards will continue to grow leadership across the provi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ight of this year’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aching for Math GA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, a coaching dimension (specifically co-planning) will be embedded within the camppp.  This will provide participants with the opportunity to deepen their understanding of the big ideas and consider applications of DI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055-F20B-4B58-91E5-131513BE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AA9-96F1-480E-B938-FBBE407E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F14-0ADB-421F-BAFC-C05A1722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C8D-A5DF-40FA-8A8A-B13120A2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6BEB-3859-4658-8AD9-245F3AD3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47BA-9F23-4508-A210-9B305315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4E16-CF2D-4221-8791-A05E8B36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49BD-52B1-4C01-8F7C-184D3CB1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99CD-83ED-4512-9686-07F72011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F6CD-2D06-4F9C-A7C6-6B999FD7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A49F-A017-424A-A3FA-BBEE2FCF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C50-D8BA-4969-80D8-5586B528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A8D7-E200-449F-BC84-E1B38812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6B4C-8AB4-44AE-A25B-FC45EBBF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10B3-4783-439F-A08B-DFD32243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1406-D180-42B7-AE9B-8B01E1DB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C19B-43FB-48E7-8480-4FFAB2B2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A12-FCD0-4B88-8B9D-6DFA6578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560-A0EE-4015-88E0-C939E6E6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CC1-32AA-4BD5-86B8-5638D010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720A-C226-4529-9B4E-334CFC69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C09C-B0C7-42E9-A87E-070C741D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DF0-7419-4A6A-B1B4-4CD898CB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C2D-C6F8-42D8-97DF-991A3011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D87E-B2B3-4907-B79A-FC280579135C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8909-EAA1-49B5-93B2-4E702D198E51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08360" y="1268280"/>
            <a:ext cx="59040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GAINS Summ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Math CAMPPP Planning W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  <a:ea typeface="Arial"/>
              </a:rPr>
              <a:t>July 13</a:t>
            </a:r>
            <a:r>
              <a:rPr b="0" lang="en-US" sz="3600" spc="-1" strike="noStrike" baseline="30000">
                <a:solidFill>
                  <a:srgbClr val="0d469b"/>
                </a:solidFill>
                <a:latin typeface="Arial"/>
                <a:ea typeface="Arial"/>
              </a:rPr>
              <a:t>th</a:t>
            </a:r>
            <a:r>
              <a:rPr b="0" lang="en-US" sz="3600" spc="-1" strike="noStrike">
                <a:solidFill>
                  <a:srgbClr val="0d469b"/>
                </a:solidFill>
                <a:latin typeface="Arial"/>
                <a:ea typeface="Arial"/>
              </a:rPr>
              <a:t> – 17</a:t>
            </a:r>
            <a:r>
              <a:rPr b="0" lang="en-US" sz="3600" spc="-1" strike="noStrike" baseline="30000">
                <a:solidFill>
                  <a:srgbClr val="0d469b"/>
                </a:solidFill>
                <a:latin typeface="Arial"/>
                <a:ea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  <a:ea typeface="Arial"/>
              </a:rPr>
              <a:t>Fern Resort, Oril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72072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  <a:ea typeface="Arial"/>
              </a:rPr>
              <a:t>Math CAMPPP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9051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nections to S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Math CAMPPP 2009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47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, 100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33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Rol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, Grades 7 and/or 8 teachers (may include one or more other Grades from K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, Grades 9, 10, 11 and/or 12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, Coach / Consultant /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 Speci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33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6, fe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, 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33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aching for Math GAI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, Coaches /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, Coach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5, N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Math CAMPPP 2009 Schedule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9051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12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Reflecting on the Vision for Math CAMPPP 2009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155680"/>
            <a:ext cx="8362800" cy="30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side-outside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330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MC’s form the inner circle &amp; facilitators form the outside circl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330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hat excites you most about Math CAMPPP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1371600" indent="-330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hat challenge do you anticipate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reak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Goals for Math CAMPPP Planning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47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lenary and breakout sessions will be developed based on the SS Indicators, the Ministry’s sharpened focus on differentiating instruction through questioning, and the development of content knowledge for teaching - for CAMPPP, SI, and beyo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ntional connections across plenary and breakout sessions will be established as developed through the lens of the big ideas for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Agenda Structure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1840" y="1817640"/>
            <a:ext cx="87328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with Marian Small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Resource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3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CH template, TIPS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iculum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3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47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Welcome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47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Initial Planning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3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cilitators &amp; PMC’s together within session grou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47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Ice Breaker…Getting to Know the Group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47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“like” (session) groups of th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rite down two truths about yourself and a lie (personal and/or profession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the three "facts" to the rest of the group who will try to guess which one is a l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Establishing Norm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47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uggestions will be presented with the intent to move the collective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ering is option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CAMPPP 2009 Planning Week Agenda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Math CAMPPP 2008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2168280"/>
            <a:ext cx="774072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213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</a:rPr>
              <a:t>An idea can turn into dust or magic, depending on the talent that rubs up against i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213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13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ill Berno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44720" y="841320"/>
            <a:ext cx="5334120" cy="579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79640" y="2565360"/>
            <a:ext cx="3492720" cy="3930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952640"/>
            <a:ext cx="209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earless Speaking and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89760" y="1376280"/>
            <a:ext cx="211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ponding to Provide Appropriate Scaffolding and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74760" y="93204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Questioning to Expose Th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3600" y="2060640"/>
            <a:ext cx="1609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stablishing Math Talk Learning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27640" y="2355840"/>
            <a:ext cx="176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ssessment for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40160" y="1419120"/>
            <a:ext cx="206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eaching through Problem Sol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63880" y="1413000"/>
            <a:ext cx="16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Differentiated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0560" y="411336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ffective Uses of Manipulatives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7640" y="2889360"/>
            <a:ext cx="15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Teaching through the Mathematical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14920" y="519264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Consistency and Alignment of Assessments of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51280" y="4184640"/>
            <a:ext cx="143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Functions-Based Curr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5400" y="5397480"/>
            <a:ext cx="164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ff"/>
                </a:solidFill>
                <a:latin typeface="Arial"/>
              </a:rPr>
              <a:t>Building Networks Within and Across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50240" y="5626080"/>
            <a:ext cx="144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ff"/>
                </a:solidFill>
                <a:latin typeface="Arial"/>
              </a:rPr>
              <a:t>Creating Collective Thinkp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0520" y="3098880"/>
            <a:ext cx="1654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Deepening Understanding of Pedagogical Conten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1080" y="330984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Focusing on Important Mathema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920"/>
            <a:ext cx="644364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  <a:ea typeface="Arial"/>
              </a:rPr>
              <a:t>Vision for Math CAMPPP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Math CAMPPP 2008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47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33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Rol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Grades 7 &amp; 8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Grades 9 &amp; 10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Grades 11 &amp; 12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System l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33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fe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33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Math Qualification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/J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te,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S; Honours Math Specialist,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,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95640" y="3122640"/>
            <a:ext cx="3205080" cy="3619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6000" y="219852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earless Speaking and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93080" y="1430280"/>
            <a:ext cx="183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ponding to Provide Appropriate Scaffolding and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3120" y="9619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Questioning to Evoke and Expose Th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416736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stablishing Math Talk Learning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59280" y="495936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ssessment for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4720" y="2583000"/>
            <a:ext cx="26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Differentiated Instruction through Questi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851360"/>
            <a:ext cx="16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ffective Uses of Manipulatives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3640" y="3446640"/>
            <a:ext cx="30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Teaching through the Mathematical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8360" y="5672160"/>
            <a:ext cx="20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Consistency and Alignment of Assessments of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5211720"/>
            <a:ext cx="164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ff"/>
                </a:solidFill>
                <a:latin typeface="Arial"/>
              </a:rPr>
              <a:t>Building Networks Within and Across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93080" y="5211720"/>
            <a:ext cx="169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ff"/>
                </a:solidFill>
                <a:latin typeface="Arial"/>
              </a:rPr>
              <a:t>Engaging in Reflective Practice through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9800" y="1312920"/>
            <a:ext cx="27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Deepening Understanding of Pedagogical Conten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0560" y="1898640"/>
            <a:ext cx="144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Focusing on Important Mathema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27280" y="2185920"/>
            <a:ext cx="4140360" cy="4591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87300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Big Ideas of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7920"/>
            <a:ext cx="644364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  <a:ea typeface="Arial"/>
              </a:rPr>
              <a:t>Vision for Math CAMPPP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1840" y="1852560"/>
            <a:ext cx="169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eaching for Conceptual Under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657360"/>
            <a:ext cx="5616360" cy="6167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ystems</cp:lastModifiedBy>
  <dcterms:modified xsi:type="dcterms:W3CDTF">2009-07-13T17:36:43Z</dcterms:modified>
  <cp:revision>128</cp:revision>
  <dc:subject/>
  <dc:title>Slide 1</dc:title>
</cp:coreProperties>
</file>